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60FF44-3667-48C6-BE74-F6CC40045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47BEDC-4C0C-41D4-BD58-38FA37C06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AA4AC7-5CC2-49B8-A346-B5A4C52681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69BFCA-8B2E-4722-9D77-3D9F2EB393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FF921-2ED9-414B-B07B-19F5A2457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4BA6C-DE95-4B94-BEBB-A9217F2D0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EF294-1175-4210-9637-F62BA9952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961EB-0671-4D06-B38B-77FCDA2BE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FFBF1-9E4C-49FC-A053-9C2CF1897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A473B-3EC0-40FC-A419-0159B4E25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E6A8C-8F71-44C5-9ED2-4761FA7A4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6E9E1-F767-4A51-845D-2632D235ED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3ED21-1195-4B88-ACDE-710098DCA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E778D-43C4-4EF9-A0F4-9AF5D2726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9CC10-E92F-4B20-ADA3-03202E739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6FE6B-4569-43CE-A86E-61791A359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B0A17-D928-4574-9582-E9D43296E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A819D0-689F-4FD3-A098-E1A6FAEED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EC3C57-4551-4577-83D1-B3131D29C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481236-2755-440A-AB50-883216C87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4828D5-1917-4A2C-AE2C-826139F9B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9F5E87-90E1-4918-8D27-680296824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027763-1CCF-4046-A47E-8D21D2033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552AE-372F-4D5D-A824-D6E0CE9802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2C22-BB0A-42CF-B77E-5C8D9F578BD4}"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4D6A-0095-4C11-9908-D51BDB9F6DB8}"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0000" y="2373120"/>
            <a:ext cx="601956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ffffff"/>
                </a:solidFill>
                <a:latin typeface="Arial"/>
              </a:rPr>
              <a:t>Διαχείριση της σχολικής τάξης</a:t>
            </a:r>
            <a:endParaRPr b="0" lang="en-US" sz="4200" spc="-1" strike="noStrike">
              <a:solidFill>
                <a:srgbClr val="000000"/>
              </a:solidFill>
              <a:latin typeface="Arial"/>
            </a:endParaRPr>
          </a:p>
        </p:txBody>
      </p:sp>
      <p:sp>
        <p:nvSpPr>
          <p:cNvPr id="107" name="PlaceHolder 2"/>
          <p:cNvSpPr>
            <a:spLocks noGrp="1"/>
          </p:cNvSpPr>
          <p:nvPr>
            <p:ph type="subTitle"/>
          </p:nvPr>
        </p:nvSpPr>
        <p:spPr>
          <a:xfrm>
            <a:off x="2627280" y="4581360"/>
            <a:ext cx="6019920" cy="1727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νόνες και καθορισμός σχέσεων</a:t>
            </a:r>
            <a:endParaRPr b="0" lang="en-US" sz="3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Λαζαρίδο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907920"/>
            <a:ext cx="8229600" cy="5329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Arial"/>
              </a:rPr>
              <a:t>Ειδικοί κανόνες</a:t>
            </a:r>
            <a:r>
              <a:rPr b="1" i="1" lang="en-US" sz="2400" spc="-1" strike="noStrike">
                <a:solidFill>
                  <a:srgbClr val="000000"/>
                </a:solidFill>
                <a:latin typeface="Arial"/>
              </a:rPr>
              <a:t>:</a:t>
            </a:r>
            <a:r>
              <a:rPr b="0" lang="en-US" sz="2400" spc="-1" strike="noStrike">
                <a:solidFill>
                  <a:srgbClr val="000000"/>
                </a:solidFill>
                <a:latin typeface="Arial"/>
              </a:rPr>
              <a:t> </a:t>
            </a:r>
            <a:r>
              <a:rPr b="0" lang="el-GR" sz="2400" spc="-1" strike="noStrike">
                <a:solidFill>
                  <a:srgbClr val="000000"/>
                </a:solidFill>
                <a:latin typeface="Arial"/>
              </a:rPr>
              <a:t>π.χ. Πρέπει να σηκώνετε το χέρι σας όταν θέλετε να μιλήσετ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ατομική εργασία και δραστηριότητες που κατευθύνονται από το δάσκαλο.</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φισταμένη προσοχή κατά τη διάρκεια των παρουσιάσεων.</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μετοχή.</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μιλία με συμμαθητέ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ζήτηση βοήθει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ιφορά όταν ολοκληρώνεται η ατομική μας εργασία.</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549360"/>
            <a:ext cx="8229600" cy="5975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την εισαγωγή των μαθητών στην τάξη και την αποχώρησή του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ξεκίνημα της ημέρ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άδεια για αποχώρηση από την τάξη.</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στροφή στην τάξη.</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χώρηση στο τέλος της ημέρας.</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Για τις ομαδικές εργασίε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ετοιμασία της τάξη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ινητικότητα των μαθητών.</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μενόμενη συμπεριφορά των μαθητών κατά τη διάρκεια της εργασί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μενόμενη συμπεριφορά των μαθητών εκτός ομάδα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λικά για εργασία.</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196640"/>
            <a:ext cx="8229600" cy="4670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Κανόνας με εξήγηση</a:t>
            </a:r>
            <a:r>
              <a:rPr b="0" lang="en-US" sz="3200" spc="-1" strike="noStrike">
                <a:solidFill>
                  <a:srgbClr val="000000"/>
                </a:solidFill>
                <a:latin typeface="Arial"/>
              </a:rPr>
              <a:t>: </a:t>
            </a:r>
            <a:r>
              <a:rPr b="0" lang="el-GR" sz="3200" spc="-1" strike="noStrike">
                <a:solidFill>
                  <a:srgbClr val="000000"/>
                </a:solidFill>
                <a:latin typeface="Arial"/>
              </a:rPr>
              <a:t>« Δεν πρέπει να σπρώχνετε  ο ένας τον άλλον, γιατί αν κάποιος πέσει μπορεί να χτυπήσει άσχημα.»</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Γενική ερώτηση</a:t>
            </a:r>
            <a:r>
              <a:rPr b="1" i="1" lang="en-US" sz="3200" spc="-1" strike="noStrike">
                <a:solidFill>
                  <a:srgbClr val="000000"/>
                </a:solidFill>
                <a:latin typeface="Arial"/>
              </a:rPr>
              <a:t>:</a:t>
            </a:r>
            <a:r>
              <a:rPr b="0" lang="en-US" sz="3200" spc="-1" strike="noStrike">
                <a:solidFill>
                  <a:srgbClr val="000000"/>
                </a:solidFill>
                <a:latin typeface="Arial"/>
              </a:rPr>
              <a:t> </a:t>
            </a:r>
            <a:r>
              <a:rPr b="0" lang="el-GR" sz="3200" spc="-1" strike="noStrike">
                <a:solidFill>
                  <a:srgbClr val="000000"/>
                </a:solidFill>
                <a:latin typeface="Arial"/>
              </a:rPr>
              <a:t>«Τι μπορούμε να κάνουμε για να πάρουμε μεγαλύτερους βαθμούς στο επόμενο διαγώνισμα;»</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549360"/>
            <a:ext cx="8291520" cy="5975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Ειδική ερώτηση</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τι θα συνέβαινε αν το κάθε παιδί καθόταν κάθε μέρα και σε διαφορετική θέση;»</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Περιστασιακός κανόνας</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Ακόμα δεν άρχισες να γράφεις;’ ‘Δεν καταλαβαίνω τι πρέπει να κάνω.’ ‘Αν δεν καταλαβαίνεις κάτι, θα πρέπει να σηκώσεις το χέρι σου και όχι να κάθεσαι και να περιμένεις να έρθω εγώ να σου εξηγήσω.»</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Διαπραγμάτευση</a:t>
            </a:r>
            <a:r>
              <a:rPr b="1" i="1" lang="en-US"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Σας επέτρεψα να μιλάτε μεταξύ σας όσο κάνετε την εργασίας σας, αλλά κάνετε πλέον υπερβολικό θόρυβο. Ας συζητήσουμε λοιπόν για λίγο τι μπορούμε να κάνουμε για ν’ αλλάξουμε αυτήν την κατάσταση.»</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Arial"/>
              </a:rPr>
              <a:t>Αυτοέλεγχος</a:t>
            </a:r>
            <a:r>
              <a:rPr b="1" i="1" lang="en-US" sz="3200" spc="-1" strike="noStrike">
                <a:solidFill>
                  <a:srgbClr val="000000"/>
                </a:solidFill>
                <a:latin typeface="Arial"/>
              </a:rPr>
              <a:t>:</a:t>
            </a:r>
            <a:r>
              <a:rPr b="0" lang="el-GR" sz="3200" spc="-1" strike="noStrike">
                <a:solidFill>
                  <a:srgbClr val="000000"/>
                </a:solidFill>
                <a:latin typeface="Arial"/>
              </a:rPr>
              <a:t> «Θα πρέπει να παίρνετε οι ίδιοι όλο και περισσότερες αποφάσεις καθώς μεγαλώνετε. Για να δούμε λοιπόν πόσο καλά μπορείτε να ελέγχετε την πορεία της εργασίας σας χωρίς να έχετε εμένα συνεχώς πάνω από το κεφάλι σ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Ά</a:t>
            </a:r>
            <a:r>
              <a:rPr b="0" lang="el-GR" sz="4400" spc="-1" strike="noStrike">
                <a:solidFill>
                  <a:srgbClr val="000000"/>
                </a:solidFill>
                <a:latin typeface="Arial"/>
              </a:rPr>
              <a:t>σκηση</a:t>
            </a:r>
            <a:endParaRPr b="0" lang="en-US" sz="4400" spc="-1" strike="noStrike">
              <a:solidFill>
                <a:srgbClr val="000000"/>
              </a:solidFill>
              <a:latin typeface="Arial"/>
            </a:endParaRPr>
          </a:p>
        </p:txBody>
      </p:sp>
      <p:sp>
        <p:nvSpPr>
          <p:cNvPr id="129" name=""/>
          <p:cNvSpPr txBox="1"/>
          <p:nvPr/>
        </p:nvSpPr>
        <p:spPr>
          <a:xfrm>
            <a:off x="457200" y="1699920"/>
            <a:ext cx="8229600" cy="4167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Ποιες είναι οι </a:t>
            </a:r>
            <a:r>
              <a:rPr b="0" lang="en-CA" sz="3200" spc="-1" strike="noStrike">
                <a:solidFill>
                  <a:srgbClr val="000000"/>
                </a:solidFill>
                <a:latin typeface="Arial"/>
                <a:ea typeface="Times New Roman"/>
              </a:rPr>
              <a:t>“</a:t>
            </a:r>
            <a:r>
              <a:rPr b="0" i="1" lang="el-GR" sz="3200" spc="-1" strike="noStrike">
                <a:solidFill>
                  <a:srgbClr val="000000"/>
                </a:solidFill>
                <a:latin typeface="Arial"/>
                <a:ea typeface="Times New Roman"/>
              </a:rPr>
              <a:t>κόκκινες γραμμές σας</a:t>
            </a:r>
            <a:r>
              <a:rPr b="0" lang="en-CA" sz="3200" spc="-1" strike="noStrike">
                <a:solidFill>
                  <a:srgbClr val="000000"/>
                </a:solidFill>
                <a:latin typeface="Arial"/>
                <a:ea typeface="Times New Roman"/>
              </a:rPr>
              <a:t>”</a:t>
            </a:r>
            <a:r>
              <a:rPr b="0" lang="el-GR" sz="3200" spc="-1" strike="noStrike">
                <a:solidFill>
                  <a:srgbClr val="000000"/>
                </a:solidFill>
                <a:latin typeface="Arial"/>
                <a:ea typeface="Times New Roman"/>
              </a:rPr>
              <a:t> για τη συμπεριφορά των μαθητών μέσα στην τάξ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επιτρέπε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δεν επιτρέπε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αγνοείτ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ι επαινείτ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62064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νόνες και διαπροσωπικές σχέσεις</a:t>
            </a:r>
            <a:endParaRPr b="0" lang="en-US" sz="3200" spc="-1" strike="noStrike">
              <a:solidFill>
                <a:srgbClr val="000000"/>
              </a:solidFill>
              <a:latin typeface="Arial"/>
            </a:endParaRPr>
          </a:p>
        </p:txBody>
      </p:sp>
      <p:sp>
        <p:nvSpPr>
          <p:cNvPr id="131" name="PlaceHolder 2"/>
          <p:cNvSpPr>
            <a:spLocks noGrp="1"/>
          </p:cNvSpPr>
          <p:nvPr>
            <p:ph/>
          </p:nvPr>
        </p:nvSpPr>
        <p:spPr>
          <a:xfrm>
            <a:off x="457200" y="1844640"/>
            <a:ext cx="8229600" cy="4022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θέσπιση κανόνων συνδέεται στενά με τις σχέσεις του εκπαιδευτικού με τους μαθητές, αλλά και των μαθητών μεταξύ τους.</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a:t>
            </a:r>
            <a:r>
              <a:rPr b="0" lang="el-GR" sz="3200" spc="-1" strike="noStrike">
                <a:solidFill>
                  <a:srgbClr val="000000"/>
                </a:solidFill>
                <a:latin typeface="Arial"/>
              </a:rPr>
              <a:t>Όταν οι ίδιοι οι εκπαιδευτικοί δεν είναι συνεπείς, τότε προκαλείται σύγχυση στους μαθητέ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33300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Έπαινοι και ποινές</a:t>
            </a:r>
            <a:endParaRPr b="0" lang="en-US" sz="3600" spc="-1" strike="noStrike">
              <a:solidFill>
                <a:srgbClr val="000000"/>
              </a:solidFill>
              <a:latin typeface="Arial"/>
            </a:endParaRPr>
          </a:p>
        </p:txBody>
      </p:sp>
      <p:sp>
        <p:nvSpPr>
          <p:cNvPr id="133" name="PlaceHolder 2"/>
          <p:cNvSpPr>
            <a:spLocks noGrp="1"/>
          </p:cNvSpPr>
          <p:nvPr>
            <p:ph/>
          </p:nvPr>
        </p:nvSpPr>
        <p:spPr>
          <a:xfrm>
            <a:off x="457200" y="1413000"/>
            <a:ext cx="8229600" cy="4752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οινές πρέπει να είναι</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Ήπιες</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μην επιβάλλονται με κακή προαίρεση</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είναι μέσα στα πλαίσια συμμόρφωσης με τους κανόνες του σχολείου.</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α είναι παρόμοιες με αυτές που θα επέβαλλαν οι ίδιοι οι γονείς ή που θα περίμενε να υποστεί ένα παιδί που έκανε κάτι κακ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980640"/>
            <a:ext cx="8229600" cy="488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έπαινοι μπορεί να είναι</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Εξωγενείς</a:t>
            </a:r>
            <a:r>
              <a:rPr b="0" lang="el-GR" sz="3200" spc="-1" strike="noStrike">
                <a:solidFill>
                  <a:srgbClr val="000000"/>
                </a:solidFill>
                <a:latin typeface="Arial"/>
              </a:rPr>
              <a:t> (βραβεία, προνόμια, οτιδήποτε προσφέρεται)</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Ενδογενείς</a:t>
            </a:r>
            <a:r>
              <a:rPr b="0" lang="el-GR" sz="3200" spc="-1" strike="noStrike">
                <a:solidFill>
                  <a:srgbClr val="000000"/>
                </a:solidFill>
                <a:latin typeface="Arial"/>
              </a:rPr>
              <a:t> (η ικανοποίηση της περιέργειας, η περηφάνεια για μια καλή εργασία, οτιδήποτε προέρχεται από το ίδιο το άτομο)</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i="1" lang="el-GR" sz="3200" spc="-1" strike="noStrike">
                <a:solidFill>
                  <a:srgbClr val="000000"/>
                </a:solidFill>
                <a:latin typeface="Arial"/>
              </a:rPr>
              <a:t>Πώς πρέπει να διαπραγματεύεται ο εκπαιδευτικός το θέμα των επαίνων και των ποινώ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691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Δραστηριότητα παρατήρησης</a:t>
            </a:r>
            <a:endParaRPr b="0" lang="en-US" sz="3600" spc="-1" strike="noStrike">
              <a:solidFill>
                <a:srgbClr val="000000"/>
              </a:solidFill>
              <a:latin typeface="Arial"/>
            </a:endParaRPr>
          </a:p>
        </p:txBody>
      </p:sp>
      <p:sp>
        <p:nvSpPr>
          <p:cNvPr id="136" name="PlaceHolder 2"/>
          <p:cNvSpPr>
            <a:spLocks noGrp="1"/>
          </p:cNvSpPr>
          <p:nvPr>
            <p:ph/>
          </p:nvPr>
        </p:nvSpPr>
        <p:spPr>
          <a:xfrm>
            <a:off x="468000" y="1628280"/>
            <a:ext cx="8280360" cy="4537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τηρήστε πώς και πότε δίνονται οι έπαινοι και επιβάλλονται οι τιμωρίες στο σχολείο σας. Να λάβετε υπόψη σας και τους υπολανθάνοντες επαίνους ή ποινές (κάποιο χαμόγελο, μια παρατήρηση, την εφαρμογή μιας ιδέας, κάποιο αρνητικό σχόλιο, την τιμωρία, την αδιαφορία, την αναγνώριση της προσπάθειας ενός παιδιού, την αφαίρεση προνομίων κλ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26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ραστηριότητα</a:t>
            </a:r>
            <a:endParaRPr b="0" lang="en-US" sz="3600" spc="-1" strike="noStrike">
              <a:solidFill>
                <a:srgbClr val="000000"/>
              </a:solidFill>
              <a:latin typeface="Arial"/>
            </a:endParaRPr>
          </a:p>
        </p:txBody>
      </p:sp>
      <p:sp>
        <p:nvSpPr>
          <p:cNvPr id="109" name="PlaceHolder 2"/>
          <p:cNvSpPr>
            <a:spLocks noGrp="1"/>
          </p:cNvSpPr>
          <p:nvPr>
            <p:ph/>
          </p:nvPr>
        </p:nvSpPr>
        <p:spPr>
          <a:xfrm>
            <a:off x="457200" y="2130480"/>
            <a:ext cx="8229600" cy="37368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ράψτε 4 κανόνες που θεωρείτε τους πιο σημαντικούς για την τάξη σ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ράψτε 4 κανόνες που θεωρείτε λιγότερο σημαντικούς για την τάξη σ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Είδη κανόνων</a:t>
            </a:r>
            <a:endParaRPr b="0" lang="en-US" sz="3600" spc="-1" strike="noStrike">
              <a:solidFill>
                <a:srgbClr val="000000"/>
              </a:solidFill>
              <a:latin typeface="Arial"/>
            </a:endParaRPr>
          </a:p>
        </p:txBody>
      </p:sp>
      <p:sp>
        <p:nvSpPr>
          <p:cNvPr id="111" name="PlaceHolder 2"/>
          <p:cNvSpPr>
            <a:spLocks noGrp="1"/>
          </p:cNvSpPr>
          <p:nvPr>
            <p:ph/>
          </p:nvPr>
        </p:nvSpPr>
        <p:spPr>
          <a:xfrm>
            <a:off x="395280" y="1557360"/>
            <a:ext cx="8353440" cy="468000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που επιβάλλονται από το νόμο </a:t>
            </a:r>
            <a:r>
              <a:rPr b="0" lang="el-GR" sz="2800" spc="-1" strike="noStrike">
                <a:solidFill>
                  <a:srgbClr val="000000"/>
                </a:solidFill>
                <a:latin typeface="Arial"/>
              </a:rPr>
              <a:t>(π.χ. δικαιώματα των γονέων, χρόνος υποχρεωτικής εκπαίδευσης, διαδικασία επιβολής ποινών)</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του σχολείου </a:t>
            </a:r>
            <a:r>
              <a:rPr b="0" lang="el-GR" sz="2800" spc="-1" strike="noStrike">
                <a:solidFill>
                  <a:srgbClr val="000000"/>
                </a:solidFill>
                <a:latin typeface="Arial"/>
              </a:rPr>
              <a:t>(π.χ. συμπεριφορά των μαθητών στο προαύλιο, η χρήση σχολικών εγκαταστάσεων)</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0000"/>
                </a:solidFill>
                <a:latin typeface="Arial"/>
              </a:rPr>
              <a:t>Κανόνες που θέτουν οι εκπαιδευτικοί </a:t>
            </a:r>
            <a:r>
              <a:rPr b="0" lang="el-GR" sz="2800" spc="-1" strike="noStrike">
                <a:solidFill>
                  <a:srgbClr val="000000"/>
                </a:solidFill>
                <a:latin typeface="Arial"/>
              </a:rPr>
              <a:t>(π.χ. η συμπεριφορά των μαθητών μέσα στην τάξη, η αντιμετώπιση παραβατικών συμπεριφορών, η πορεία του μαθήματος)</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28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δείγματα κανόνων</a:t>
            </a:r>
            <a:endParaRPr b="0" lang="en-US" sz="3200" spc="-1" strike="noStrike">
              <a:solidFill>
                <a:srgbClr val="000000"/>
              </a:solidFill>
              <a:latin typeface="Arial"/>
            </a:endParaRPr>
          </a:p>
        </p:txBody>
      </p:sp>
      <p:sp>
        <p:nvSpPr>
          <p:cNvPr id="113" name="PlaceHolder 2"/>
          <p:cNvSpPr>
            <a:spLocks noGrp="1"/>
          </p:cNvSpPr>
          <p:nvPr>
            <p:ph/>
          </p:nvPr>
        </p:nvSpPr>
        <p:spPr>
          <a:xfrm>
            <a:off x="468360" y="1413000"/>
            <a:ext cx="822960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Α</a:t>
            </a:r>
            <a:r>
              <a:rPr b="0" lang="en-US" sz="2400" spc="-1" strike="noStrike">
                <a:solidFill>
                  <a:srgbClr val="000000"/>
                </a:solidFill>
                <a:latin typeface="Arial"/>
              </a:rPr>
              <a:t>: </a:t>
            </a:r>
            <a:r>
              <a:rPr b="1" i="1" lang="el-GR" sz="2400" spc="-1" strike="noStrike">
                <a:solidFill>
                  <a:srgbClr val="000000"/>
                </a:solidFill>
                <a:latin typeface="Arial"/>
              </a:rPr>
              <a:t>«Να θυμάστε ότι όταν θέλετε να πείτε κάτι μέσα στην τάξη, θα πρέπει να σηκώνετε το χέρι σας. Δε θέλω να ακούσω κανέναν να μιλάει χωρίς προηγουμένως να έχει σηκώσει το χέρι του. Όταν φωνάζετε όλοι μαζί, δεν ακούγεται τελικά κανένας.»</a:t>
            </a:r>
            <a:r>
              <a:rPr b="0" lang="el-GR" sz="2400" spc="-1" strike="noStrike">
                <a:solidFill>
                  <a:srgbClr val="000000"/>
                </a:solidFill>
                <a:latin typeface="Arial"/>
              </a:rPr>
              <a:t> (στην αρχή της σχολικής χρονιάς)</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Β</a:t>
            </a:r>
            <a:r>
              <a:rPr b="0" lang="en-US" sz="2400" spc="-1" strike="noStrike">
                <a:solidFill>
                  <a:srgbClr val="000000"/>
                </a:solidFill>
                <a:latin typeface="Arial"/>
              </a:rPr>
              <a:t>: </a:t>
            </a:r>
            <a:r>
              <a:rPr b="1" i="1" lang="el-GR" sz="2400" spc="-1" strike="noStrike">
                <a:solidFill>
                  <a:srgbClr val="000000"/>
                </a:solidFill>
                <a:latin typeface="Arial"/>
              </a:rPr>
              <a:t>«Τι κάνουμε πάντα όταν θέλουμε να πάρουμε το λόγο;»</a:t>
            </a:r>
            <a:r>
              <a:rPr b="0" i="1" lang="el-GR" sz="2400" spc="-1" strike="noStrike">
                <a:solidFill>
                  <a:srgbClr val="000000"/>
                </a:solidFill>
                <a:latin typeface="Arial"/>
              </a:rPr>
              <a:t> </a:t>
            </a:r>
            <a:r>
              <a:rPr b="0" lang="el-GR" sz="2400" spc="-1" strike="noStrike">
                <a:solidFill>
                  <a:srgbClr val="000000"/>
                </a:solidFill>
                <a:latin typeface="Arial"/>
              </a:rPr>
              <a:t>(την πρώτη μέρα της σχολικής χρονιάς)</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τικός Γ</a:t>
            </a:r>
            <a:r>
              <a:rPr b="0" lang="en-US" sz="2400" spc="-1" strike="noStrike">
                <a:solidFill>
                  <a:srgbClr val="000000"/>
                </a:solidFill>
                <a:latin typeface="Arial"/>
              </a:rPr>
              <a:t>: </a:t>
            </a:r>
            <a:r>
              <a:rPr b="1" i="1" lang="el-GR" sz="2400" spc="-1" strike="noStrike">
                <a:solidFill>
                  <a:srgbClr val="000000"/>
                </a:solidFill>
                <a:latin typeface="Arial"/>
              </a:rPr>
              <a:t>«Βλέπω ότι φωνάζετε συνέχεια ‘Κυρία, κυρία’ χωρίς να σηκώνετε χέρι. Για να δω τα χεράκια σηκωμένα και μετά θα αποφασίσω ποιος θα μιλήσει.»</a:t>
            </a:r>
            <a:r>
              <a:rPr b="0" lang="el-GR" sz="2400" spc="-1" strike="noStrike">
                <a:solidFill>
                  <a:srgbClr val="000000"/>
                </a:solidFill>
                <a:latin typeface="Arial"/>
              </a:rPr>
              <a:t> (δεύτερη μέρα μαθημάτω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86960"/>
            <a:ext cx="822960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Κατηγοριοποίηση κανόνων</a:t>
            </a:r>
            <a:endParaRPr b="0" lang="en-US" sz="3600" spc="-1" strike="noStrike">
              <a:solidFill>
                <a:srgbClr val="000000"/>
              </a:solidFill>
              <a:latin typeface="Arial"/>
            </a:endParaRPr>
          </a:p>
        </p:txBody>
      </p:sp>
      <p:sp>
        <p:nvSpPr>
          <p:cNvPr id="115" name="PlaceHolder 2"/>
          <p:cNvSpPr>
            <a:spLocks noGrp="1"/>
          </p:cNvSpPr>
          <p:nvPr>
            <p:ph/>
          </p:nvPr>
        </p:nvSpPr>
        <p:spPr>
          <a:xfrm>
            <a:off x="826560" y="2314080"/>
            <a:ext cx="7859880" cy="355284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ίνηση</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μιλία</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ργασία μέσα στην τάξη</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ώρος</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φάλεια</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ά και μέσα διδασκαλίας</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οινωνική συμπεριφορά</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86960"/>
            <a:ext cx="822960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ραστηριότητα</a:t>
            </a:r>
            <a:endParaRPr b="0" lang="en-US" sz="36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βάση τις προηγούμενες κατηγορίες κανόνων προσπάθησε να εντάξεις τους κανόνες που έγραψες προηγουμένως σε κάποιες από τις κατηγορίες αυτές.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την ομάδα, συντάξετε μια λίστα με τους κοινούς κανόνες και τις κατηγορίες στις οποίες ανήκουν. Κατόπιν επιλέξτε 3 κανόνες που θεωρείτε τους πιο σημαντικούς και συζητήστε πώς α) θα τους εφαρμόζατε στην τάξη σας και β) τι θα κάνατε όταν οι μαθητές τους παραβίαζα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Αυτοέλεγχος και διαπραγμάτευση</a:t>
            </a:r>
            <a:endParaRPr b="0" lang="en-US" sz="3600" spc="-1" strike="noStrike">
              <a:solidFill>
                <a:srgbClr val="000000"/>
              </a:solidFill>
              <a:latin typeface="Arial"/>
            </a:endParaRPr>
          </a:p>
        </p:txBody>
      </p:sp>
      <p:sp>
        <p:nvSpPr>
          <p:cNvPr id="119"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ρευνες έχουν δείξει ότι τα προβλήματα διαχείρισης της τάξης μειώνονται αν τα παιδιά καταλάβουν γιατί πρέπει να εφαρμόζονται κάποιοι κανόνες ή αν ενημερωθούν για το είδος της συμπεριφοράς που είναι αποδεκτό.</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εκπαιδευτικός οφείλει να εξηγήσει στα παιδιά ποιους κανόνες θεωρεί ο ίδιος απαραίτητους, αλλά να δίνει και στα παιδιά τη δυνατότητα να προτείνουν κάποιους καινούργιους ή να κάνουν τροποποιήσεις των ήδη υπαρχόντων.</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ίναι τελικά διαπραγματεύσιμο;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παιδιά είναι απαραίτητο να συνειδητοποιήσουν την ανάγκη ύπαρξης κανόνων.</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παιδιά πρέπει να έρθουν αντιμέτωπα με θέματα όπως η αυτοπειθαρχία, ο αυτοέλεγχος, ο αλληλοσεβασμός.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ην τελική ευθύνη για τους κανόνες την έχουν οι εκπαιδευτικο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933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Τρόποι καθιέρωσης κανόνων</a:t>
            </a:r>
            <a:endParaRPr b="0" lang="en-US" sz="3600" spc="-1" strike="noStrike">
              <a:solidFill>
                <a:srgbClr val="000000"/>
              </a:solidFill>
              <a:latin typeface="Arial"/>
            </a:endParaRPr>
          </a:p>
        </p:txBody>
      </p:sp>
      <p:sp>
        <p:nvSpPr>
          <p:cNvPr id="122" name="PlaceHolder 2"/>
          <p:cNvSpPr>
            <a:spLocks noGrp="1"/>
          </p:cNvSpPr>
          <p:nvPr>
            <p:ph/>
          </p:nvPr>
        </p:nvSpPr>
        <p:spPr>
          <a:xfrm>
            <a:off x="457200" y="1268280"/>
            <a:ext cx="8229600" cy="485784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Arial"/>
              </a:rPr>
              <a:t>Γενικοί κανόνες</a:t>
            </a:r>
            <a:r>
              <a:rPr b="0" lang="en-US" sz="2400" spc="-1" strike="noStrike">
                <a:solidFill>
                  <a:srgbClr val="ff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βασμός και ευγενική συμπεριφορά προς όλους.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γρήγορση και προετοιμασία για αποτελεσματική διδασκαλία (αφορά τον εκπαιδευτικό).</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 μιλάμε ο ένας πάνω στον άλλο (ενίσχυση της ικανότητας παρακολούθησης του ομιλητή και ανάληψη του λόγου μετά το τέλος της ομιλίας).</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ακοή όλων των κανόνων που έχει το σχολείο και η τάξη.</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ιφορά μαθητών στο προαύλιο.</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9:02:25Z</dcterms:created>
  <dc:creator>1</dc:creator>
  <dc:description/>
  <dc:language>en-US</dc:language>
  <cp:lastModifiedBy>Angeliki Lazaridou</cp:lastModifiedBy>
  <dcterms:modified xsi:type="dcterms:W3CDTF">2023-06-04T10:28:30Z</dcterms:modified>
  <cp:revision>32</cp:revision>
  <dc:subject/>
  <dc:title>Διαχείριση της σχολικής τάξης</dc:title>
</cp:coreProperties>
</file>